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BDC N3 Partner Technical Meeting 28-29 March 2011, ILR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5CBD-387F-4555-A0E5-AE3A463493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BDC N3 Partner Technical Meeting 28-29 March 2011, ILRI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BDC N3 Partner Technical Meeting 28-29 March 2011, ILRI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BDC N3 Partner Technical Meeting 28-29 March 2011, ILRI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BDC N3 Partner Technical Meeting 28-29 March 2011, ILRI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200-3E27-4F31-9A28-CDBE3CEC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9F8-B368-4A74-83D7-752C924C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247-7D6F-41FA-BBDB-C1AA0DE5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843-9B26-4FA6-B3F1-0D7F4132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CE39-641C-4183-B925-7FCFFAB2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B307-7377-451B-B446-C1F31D10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F83D-5E77-42E9-A135-9035211E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8CE8-4313-44C4-8ABD-53BD2C01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3F91-734F-4284-9322-55C58CCD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BAD6-75F9-468E-9AC0-4E327CE1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C6C9-B503-4B21-BFCB-2083C6C7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7D2-54EE-4D4B-AD89-D0AF96EA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38F7-EEBC-4AC4-8A10-B869B451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23C6-C495-45D7-BE89-49F7C43E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1B38-B129-43A7-8934-B84A529D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D04C-BC58-482A-B392-63F90607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94FD-A2BB-4207-81A7-1F3F1A4D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D068-348B-46EC-AB30-64D21519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F4EEE-ABB7-48D6-82C6-EB9CC796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93CC-7B56-4973-B926-09782482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A5FB-5546-4212-BEE4-22D757C8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94D2-6F5F-47BF-AFC6-57424621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582-8338-4CF0-B002-149B4805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85C4-CF22-4DDD-A052-9D923DC9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1796-54C2-47EF-A54D-FEFC2F6B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9D480-06D6-45F5-B570-4EF686FD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EC45-19C2-4BA1-8F37-E601994C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2813-62E8-4610-8D1C-36B3A048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4275-819B-4C6C-8C20-E7BAE5E8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A466-D932-4104-A8B3-A32074DD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98867-6A13-4AD0-9E92-F69076C8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11A19-DF53-48CA-B7D6-D70E33F2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07958-50FF-4079-8CD7-4EBB3821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06B-7463-4DEB-AB46-D2B56F7B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2B79C-DB8B-4E97-BA3E-CC232492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DEC9-CC2A-4328-97B5-ECB44DF6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C15A3-580D-4C5F-91B0-44C881FE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07B71-5AA9-47CB-B334-8DD70B51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A9ABB-1671-490C-8741-40B4F84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C862C-B5F1-426E-B5C8-ADBEC549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B8FE2-0226-4EC3-B828-4940AFA4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69615-C39C-42FD-9904-4588DF6A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DEBEE-865C-4551-98B3-E03FAEC7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71AFE-2E8E-4F54-BF5F-4DB6D433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DFC-9D94-4F6B-B207-FA77E598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34F16-356F-4A7E-8CDA-408E8E92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FCFD5-2FDE-4FC5-9677-505DF4C7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A1BE3-20CE-448A-80DA-906C6856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6F3F6-B908-4449-92FF-431440E0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7016B-F706-4762-B056-D169CD9D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05C67-A827-4EA8-9F3D-665BB0E6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1FB7A-A3C2-49C4-8281-22EE6CE5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11C78-F42D-4918-93C6-620B3479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CBE04-2B80-4ABA-94BF-6AAE762F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C079-A504-45E3-8217-E890B2D4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A86-3E69-4F3B-A849-EC23E2D2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A5FB5-B25E-4C7C-92BE-1ECE4871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E2CC1-D1AE-46B2-99D3-A7B04FB0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C64E5-746E-4571-B931-6558ED47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79D88-A029-49FB-A63C-09A8F949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00B07-4551-461E-AAE5-BF132136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4C9EC-EB63-460B-92D2-0041AC14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1242E-DA8B-48F0-8124-137DCE24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DA913-8E09-477F-8A34-148A66CC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1F97A-8D03-435B-BD68-D943B9B9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415BB-D76C-4870-98FF-AF74CB6B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579-4085-45F0-A0A7-0586ADAC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693B8-59D7-410E-98F8-67FF2A8D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3A588-0737-40A2-B20E-810B006B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EB679-77A3-4389-AD05-30090F16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E0E91-F2B3-4C6A-81C9-80C400E9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AD27A-5D37-4DD1-9566-0158AC49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4FD79-4B58-4611-BFAA-FEB58E6B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C72DD-EBA5-4E12-BB74-DEC02BBE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AFEFC-DF63-4122-A979-64A6484A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D8B53-953A-47C5-ACF6-F6A39EEA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54F04-1E5A-42EE-831B-78E97BA1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19C-2C24-4FB4-9C00-731C7283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FCDFF-AE58-42CB-AB04-EE1BDAF4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34CA0-3CC8-48C0-B298-F0388F82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D6110-04E8-4DD1-B960-CD348E95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FA467-BC1E-4F73-A3CF-98CE1764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A4758-F278-49AD-89C6-E35A3313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7984D-7388-4AD5-B8EF-2D667934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F0561-2EF4-49B3-A7DC-25396055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9B751-960A-4F06-A8D0-1E5B582B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904D0-4B16-4961-94C6-F40F3B9C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47508-C70F-4832-B630-0A7FE72D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40E-5C7A-4A25-9022-6DB74DB3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31987-E959-431D-9D3E-E85A9027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3C790-7E69-4717-834E-F8724CF4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D2C28-74E9-4D52-A58D-B3373F6E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3DA50-700F-486F-B78C-F6AB4FA8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E6EC0-CF35-4DCD-BA7E-711C959D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A6C4C-C138-4413-BF80-E30ED30D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803D8-6D94-497B-9A00-79A1384A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716D-88DD-4324-9335-016AEDFBBD68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986D-B8F6-4FB5-8BAC-677FB16BCF0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08B0-28ED-4DED-B72E-AB079A73C52B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78D0-98B0-4A0F-96B5-5D14CD0B8B5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766C-DE8B-4CCC-A392-3A952232B796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BD5F-D748-4AF2-A174-D64C114FE8E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D4CA-D901-401D-BC90-9632D2D1B335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11AB-F70A-4646-B1CB-717BD9FD01F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E840-2626-453E-A93D-F0C21D919E12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FE77-15E2-494C-BAB5-A21575F07D3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0BA5-D646-42E5-9671-8AF1AB54BEDE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FD05-28A1-4606-B994-B39566F2AB0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D77D-AA46-4788-B783-4EB73BFE257E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4D1C-122E-4225-88E9-9008346B50A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Rechte verbindingslijn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5BEF-FFC9-4F55-BC74-019C62B6577D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B54C-CBD1-4C38-8B39-C276F1C8D4C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Bookman Old Style"/>
              </a:rPr>
              <a:t>Amhara Region Agricultural Research Institute (ARAR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By Gizaw Desta (Ph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838080" y="260280"/>
            <a:ext cx="75502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464653"/>
                </a:solidFill>
                <a:latin typeface="Gill Sans MT"/>
              </a:rPr>
              <a:t>Conservation agriculture practices – mulching, zero tillage, crop residue, cover crops, green manuring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464653"/>
                </a:solidFill>
                <a:latin typeface="Gill Sans MT"/>
              </a:rPr>
              <a:t>Testing deficit water management techniques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464653"/>
                </a:solidFill>
                <a:latin typeface="Gill Sans MT"/>
              </a:rPr>
              <a:t>Irrigation water management 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Flood prediction and flood control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464653"/>
                </a:solidFill>
                <a:latin typeface="Gill Sans MT"/>
              </a:rPr>
              <a:t>Agrometeorology and cropping pattern studies, drought and its coping strategies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464653"/>
                </a:solidFill>
                <a:latin typeface="Gill Sans MT"/>
              </a:rPr>
              <a:t>Evapotranspiration 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D844-2422-4D6A-AF5F-0DD06BAAF8A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How do you decide about the water </a:t>
            </a:r>
            <a:br>
              <a:rPr sz="2900"/>
            </a:b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related activities?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1341360"/>
            <a:ext cx="8964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hich data do you use?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generated through informal and formal surve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ainfall (deficit or exces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arming system (less or high water demand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oil (WHC, soil depth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ocio-economic (capacity of farmers for uptake of technology, preference or demand,  knowledge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do you decide about the location of the activitie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xtent of problem or constraint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easibility of potential impact and demand for adop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presentation of wider biophysical, agroecological and socioeconomic sets of conditions or domain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1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3453-786D-466C-AF59-BEB0F8E8000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24000" y="1218960"/>
            <a:ext cx="86407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an you describe the process that leads to activ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Agricultural problems surveyed (and presented to stakeholder platform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Major researchable issues identified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These issues will be distributed to research centers for project proposal development 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Proposed research activities will be reviewed at department level, followed by research centre level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Research and Partner joint annual research review will be done by involving researchers, university researchers, extension, and NGOs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Annual Research Directory will be developed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2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B2C2-E8B7-4ABA-9402-4D31A3CB602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o you investigate the impact of the activitie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mpact of activities were not studied very often.  But technical and socio-economic assessments of the activities are investigate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o what extent do you use maps and GI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 is not common to apply Map and GIS tools for many of the research activities as there is lack of input data and knowledge of tool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2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99FF-8519-4EBE-93DE-C89431B65A8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Who are the partners that ARARI </a:t>
            </a:r>
            <a:br>
              <a:rPr sz="2900"/>
            </a:b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is working with?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holder farmers, water user associations, FRE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reau of Agriculture (BoA) or agricultural exten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reau of Water Resources (BOWRD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perative agenc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d enterprises, private investors, private business processors and enterpri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regional govern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GOs and donors of bilateral &amp; multi-lateral agre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onal agricultural colleges and Universiti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onal, national and international research institu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keholder platform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3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11FD-E9F4-494B-833C-3063F434FF7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How do you disseminate knowledge </a:t>
            </a:r>
            <a:br>
              <a:rPr sz="2900"/>
            </a:b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to these partners ?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rticipatory research – Farmer-Research-Extension-Group (FRE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monstrations and pre-scaling up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keholder platforms (ARDPLAC) – developing technology package and popularization through the extension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ining and worksho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eld days and experience vis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hibition of technologies and inform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blication – Annual progress reports, Proceedings, Journals, Manuals, Posters and Leafl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3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CDAD-A8EF-4C7D-B118-A9D12083A75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Examples of success stories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219320"/>
            <a:ext cx="8229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If possible illustrate a success story? What were the factors that led to succes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Rainfed Potato production in North Shewa – competing with the barley syste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Rice and vegetable production in Fogera wetlan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Broad Bed and Furrow (BBF) expansion to vertiso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Village based Menz-Awassi cross breed production in Menz and South Wollo areas – poor crop farming system and immediate benefit gai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4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2B00-2E6D-411D-912B-5F4EF05E72E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 you have an examples of projects that were less successful? What were the drivers hampering succes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Water harvesting – due to blanket planning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road Bed Maker (BBM) – specific to soil and rainfall onset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2529-2536-4B54-BFB9-F7DE7D52928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Gill Sans MT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CF0A-78C9-4EA7-909F-5779994AA05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Footer Placeholder 5"/>
          <p:cNvSpPr/>
          <p:nvPr/>
        </p:nvSpPr>
        <p:spPr>
          <a:xfrm>
            <a:off x="1619280" y="630864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Gill Sans MT"/>
              </a:rPr>
              <a:t>ARARI Establishment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ablished  before 10 years to spearhead the regional research system – some of its research centers established before 25 y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rganized into Five Research Directorate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vestock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il and Wat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estr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icultural Mechanization &amp; Food Scien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730872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DBC1-722D-4622-93D6-D8A5F8BC35D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Footer Placeholder 5"/>
          <p:cNvSpPr/>
          <p:nvPr/>
        </p:nvSpPr>
        <p:spPr>
          <a:xfrm>
            <a:off x="1692360" y="630864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79246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Gill Sans MT"/>
              </a:rPr>
              <a:t>Five Comprehensive Research centers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380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)   Adet ARC ( Crop, Soil &amp; water, Forest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  Debre Birhan ARC ( Crop, Soil &amp; Water, Livestock &amp; Forest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  Sirinka ARC (Crop, Soil &amp; Water, Livestock &amp;  Forest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  Sekota DLARC (Crop, Soil &amp; Water, Livestock &amp; Forest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)  Gondar ARC (Crop, soil &amp; Water, Livestock &amp; Foerestry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7236000" y="-24300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7B9D-BCA1-4F19-8E7B-DED3410510B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826920" y="1773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ree specialized research cent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) Bahir Dar Fishery and other aquatic lif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arch cente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Bahir Dar Agricultural Mechanization and Foo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Science Research cente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Andassa Livestock Research cent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32CB-0227-43E7-80D6-5FB12DEAF5E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Gill Sans MT"/>
              </a:rPr>
              <a:t>Five research sub-center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bre Tab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notesel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em Ket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ob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ar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 over 40 trial st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7236000" y="-24300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38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D5C1-B272-4520-8950-650C68D200B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ARARI Research Centers byZone Administrative Level"/>
          <p:cNvPicPr/>
          <p:nvPr/>
        </p:nvPicPr>
        <p:blipFill>
          <a:blip r:embed="rId1"/>
          <a:stretch/>
        </p:blipFill>
        <p:spPr>
          <a:xfrm>
            <a:off x="304920" y="9144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"/>
          <p:cNvPicPr/>
          <p:nvPr/>
        </p:nvPicPr>
        <p:blipFill>
          <a:blip r:embed="rId2"/>
          <a:stretch/>
        </p:blipFill>
        <p:spPr>
          <a:xfrm>
            <a:off x="7236000" y="-24300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38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389B-5CB2-4A2A-AD4A-A2479370DD1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What is the major objective of ARARI?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eneration and adaptation of improved agricultural technolog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monstration and popularization of improved technologies and knowledge to users through pre-extension demonstration, exhibition, field days, training, advice, and publica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ultiplication of breeder and pre-se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ordinate the regional agricultural research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B716-E7A6-4837-AB45-086C7B4DA45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What are the main water related activities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In-situ rain water harvesting and management for moisture stress areas- 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hillslopes: half moon, trench, eyebrow, an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agricultural bottom lands: tie-ridge, zie p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valuation and demonstration of water harvesting systems –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chnical and socioeconomic evaluation of water harvesting syst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ative analysis of lining materials for seepage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56AC-7025-4D6C-BCD5-D1A297B9EB8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Evaluation, verification and demonstration of surface drainage techniques (BBF, BBM, RF) and reuse of drained water for supplemental irrigation in vertisol areas 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Integrated watershed management –WH, SWC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Assessment and management of wetlands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Runoff-rainfall relation, runoff-soil loss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What are the main water related activities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5334-55B1-4F3F-98C5-A8C7FBF386C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7:35:18Z</dcterms:created>
  <dc:creator>Catherine -user</dc:creator>
  <dc:description/>
  <dc:language>en-US</dc:language>
  <cp:lastModifiedBy>Catherine -user</cp:lastModifiedBy>
  <dcterms:modified xsi:type="dcterms:W3CDTF">2011-03-28T09:47:32Z</dcterms:modified>
  <cp:revision>58</cp:revision>
  <dc:subject/>
  <dc:title>PowerPoint-presentatie</dc:title>
</cp:coreProperties>
</file>